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BFD-E5CA-4B50-81C9-725AF689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18E-3317-453D-8DB0-56932628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D22-954A-442D-8C9E-9488F396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4FF-E14E-49BC-9A23-10C40660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C09-7658-43D4-ABAB-E5C552B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9EC-9BDB-49B4-885C-3CE5083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89E-FBA0-46F0-9BFA-ED8B62F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126-E14F-4B46-A3D1-84EC36A1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AF3-F112-4E0F-A698-C610CBAC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580-2069-4734-85C6-4FF5C4B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337-CD57-405C-877F-BD00021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B5D-EC1C-4FA8-8467-68D2EB1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8BB9-27B9-4CA3-9147-96340FD93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model rock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.S. Sriram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Ef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is the ratio of the useful work done to the energy expen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ase of the model rocket, we expend energy by burning black powder – this causes gases exiting the nozzle at a high velocity, which in turn propels the ro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calculating ef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out energy produced by the reaction for a known mass of reac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out energy required to expel a known mass of reaction products (gases and solids) at a known exhaust velo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black powder is consum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the solid and gaseous reaction products are expelled through the nozz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guring out the energy produced by re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powder re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 KNO3 + S + 3 C → K2S + N2 + 3 CO2 + 571.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lojoul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71.7 KJ is the energy produc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 mo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reac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need to figure out how much energy is produced by 21.1 g of reac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any grams is 1 mole of reac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up all the atomic weights on the right side of the reac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*(39 +14+3*16) + 32 + 3*12 = 270 g = 1 mole of react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ergy produced by 21.1 g = (21.1/270)*571.7 = 44.7 kilojou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86480" y="5791320"/>
            <a:ext cx="88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Can obtain this by subtracting standard enthalpies of formation of the product sid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actant side. Standard enthalpies of formation can be obtained from the CRC hand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Chemistry and Physics. This is a simplified version of the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ng energy needed to accelerate the reaction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reaction products consumed = 21.1g  = 0.0211 kg(from Estes D12 datashe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haust velocity = total impulse/mass consumed = 16.84 N-sec/0.0211 kg = 798.1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of exhaust = ½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½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0.02111*798.1^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720.04 joules = 6.72 k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done to accelerate the exhaust = 6.72 k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produced by burning 21.1g of black powder = 44.7 k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= 6.72/44.7 = 0.1503 = 15.0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0:47:17Z</dcterms:created>
  <dc:creator> T.S. Sriram</dc:creator>
  <dc:description/>
  <dc:language>en-US</dc:language>
  <cp:lastModifiedBy> T.S. Sriram</cp:lastModifiedBy>
  <dcterms:modified xsi:type="dcterms:W3CDTF">2009-12-03T13:39:28Z</dcterms:modified>
  <cp:revision>8</cp:revision>
  <dc:subject/>
  <dc:title>Efficiency of model rockets</dc:title>
</cp:coreProperties>
</file>